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CA58-659A-49C7-A508-F10E30C5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spend some time discussing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.in your group….look at the Dawn Reithaug information regarding Tiers and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creens are being used in your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do use screens what is the data use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ome time to explore Dawn’s suggestions for screeners –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chools/division wid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?Discussion?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with 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be willing to work with a teacher….do a screen and then work with them to determine some small groupings (centers?)  Florida center reading….home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034-411A-4ECE-91C3-18184097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01D-87AC-47C0-ACC8-0590ACE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678-E650-4602-AA1F-63F9A92F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EFF-D373-4BC5-A1E5-39642A46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CC2-49D1-4497-BF49-E32B384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5E0-A804-4F65-AC95-F7BFF25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FCB-502F-42D3-A807-DD56E01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34B-77CC-493F-BCDA-A7DDEE0E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48B-BF03-4532-B471-4B91F3D5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A8C-8B6E-4A69-8967-2E078A0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99E-6F66-4AC2-B283-62ECD1A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44E-37AA-4791-956A-A0DBE00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54DD-BE39-47B9-947F-63CB6D64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rbe.sk.ca/learningplus/diflearn/quiz.html" TargetMode="External"/><Relationship Id="rId2" Type="http://schemas.openxmlformats.org/officeDocument/2006/relationships/hyperlink" Target="http://web.rbe.sk.ca/learningplus/diflearn/quiz.ht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 Grades Middle Ye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bruary 8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the              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3760" y="137160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o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 to 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mmedi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terp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dministered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905120" y="12193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and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examine student performanc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adjus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s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68280" y="2743200"/>
            <a:ext cx="1981080" cy="1371600"/>
            <a:chOff x="368280" y="2743200"/>
            <a:chExt cx="1981080" cy="1371600"/>
          </a:xfrm>
        </p:grpSpPr>
        <p:sp>
          <p:nvSpPr>
            <p:cNvPr id="105" name=""/>
            <p:cNvSpPr/>
            <p:nvPr/>
          </p:nvSpPr>
          <p:spPr>
            <a:xfrm>
              <a:off x="368280" y="2743200"/>
              <a:ext cx="1981080" cy="1371600"/>
            </a:xfrm>
            <a:custGeom>
              <a:avLst/>
              <a:gdLst>
                <a:gd name="textAreaLeft" fmla="*/ 309600 w 1981080"/>
                <a:gd name="textAreaRight" fmla="*/ 1733760 w 1981080"/>
                <a:gd name="textAreaTop" fmla="*/ 342720 h 1371600"/>
                <a:gd name="textAreaBottom" fmla="*/ 10288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760" y="323064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09680" y="4038480"/>
            <a:ext cx="34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62920" y="457200"/>
            <a:ext cx="1193400" cy="1104840"/>
            <a:chOff x="7162920" y="457200"/>
            <a:chExt cx="1193400" cy="1104840"/>
          </a:xfrm>
        </p:grpSpPr>
        <p:sp>
          <p:nvSpPr>
            <p:cNvPr id="109" name=""/>
            <p:cNvSpPr/>
            <p:nvPr/>
          </p:nvSpPr>
          <p:spPr>
            <a:xfrm>
              <a:off x="7162920" y="457200"/>
              <a:ext cx="1180080" cy="11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9400" y="690480"/>
              <a:ext cx="118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52920" y="3809880"/>
            <a:ext cx="34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the              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gathered from multiple sources (compreh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nform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(anecd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09840" y="1981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program attai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of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on the program’s 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315200" y="457200"/>
            <a:ext cx="1193400" cy="1104840"/>
            <a:chOff x="7315200" y="457200"/>
            <a:chExt cx="1193400" cy="1104840"/>
          </a:xfrm>
        </p:grpSpPr>
        <p:sp>
          <p:nvSpPr>
            <p:cNvPr id="116" name=""/>
            <p:cNvSpPr/>
            <p:nvPr/>
          </p:nvSpPr>
          <p:spPr>
            <a:xfrm>
              <a:off x="7315200" y="457200"/>
              <a:ext cx="1180080" cy="11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21680" y="690480"/>
              <a:ext cx="118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68280" y="2743200"/>
            <a:ext cx="1981080" cy="1371600"/>
            <a:chOff x="368280" y="2743200"/>
            <a:chExt cx="1981080" cy="1371600"/>
          </a:xfrm>
        </p:grpSpPr>
        <p:sp>
          <p:nvSpPr>
            <p:cNvPr id="119" name=""/>
            <p:cNvSpPr/>
            <p:nvPr/>
          </p:nvSpPr>
          <p:spPr>
            <a:xfrm>
              <a:off x="368280" y="2743200"/>
              <a:ext cx="1981080" cy="1371600"/>
            </a:xfrm>
            <a:custGeom>
              <a:avLst/>
              <a:gdLst>
                <a:gd name="textAreaLeft" fmla="*/ 309600 w 1981080"/>
                <a:gd name="textAreaRight" fmla="*/ 1733760 w 1981080"/>
                <a:gd name="textAreaTop" fmla="*/ 342720 h 1371600"/>
                <a:gd name="textAreaBottom" fmla="*/ 10288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1760" y="323064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D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Hum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changed in your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Stages of “Backward”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233360"/>
          <a:ext cx="8007480" cy="510696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01840" y="319320"/>
            <a:ext cx="81403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STAGE 2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: DETERMINE ACCEPTABLE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y, complex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cative of 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ubr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used to assess complex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should be credible and helpfu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: The assessments sh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rounded in real-world appl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upplemented as needed by more traditional school evid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arner,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pa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ize secre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alid,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ligned with the desired results of Stag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Instruc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because the student “knows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”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understanding is a greater challenge than evidence that the student knows a correct or vali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is inferred, not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can only be inferred if we see evidence that the student know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y (it works), how (to apply it)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just know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ic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all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when you c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d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ssing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way to assess for understanding is v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xtualized 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applying” in the broadest sense our knowledg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s more than the sum of the drills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ing only conventional quizzes and tests is insufficient and as misleading as relying only on sideline drills to judge athletic performance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eli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267440" cy="3797280"/>
          </a:xfrm>
          <a:prstGeom prst="rect">
            <a:avLst/>
          </a:prstGeom>
          <a:ln w="316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981080" y="804240"/>
            <a:ext cx="5051160" cy="5862960"/>
            <a:chOff x="1981080" y="804240"/>
            <a:chExt cx="5051160" cy="5862960"/>
          </a:xfrm>
        </p:grpSpPr>
        <p:sp>
          <p:nvSpPr>
            <p:cNvPr id="56" name=""/>
            <p:cNvSpPr/>
            <p:nvPr/>
          </p:nvSpPr>
          <p:spPr>
            <a:xfrm>
              <a:off x="3695040" y="804240"/>
              <a:ext cx="1172520" cy="631440"/>
            </a:xfrm>
            <a:prstGeom prst="rect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’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response to 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rner’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95040" y="1706040"/>
              <a:ext cx="1172520" cy="631440"/>
            </a:xfrm>
            <a:prstGeom prst="rect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uided by the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ve Non-negoti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216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exible grou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504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inuous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5792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gh quality curricu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0440" y="2608200"/>
              <a:ext cx="90180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spectful ta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95040" y="378036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rding to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udent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38280" y="4141800"/>
              <a:ext cx="1082520" cy="360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95040" y="441180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rning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1080" y="4231800"/>
              <a:ext cx="1082160" cy="360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5040" y="495324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can differenti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95040" y="5584680"/>
              <a:ext cx="1082160" cy="27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31800" y="143568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161080" y="2337480"/>
              <a:ext cx="153324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424320" y="2337480"/>
              <a:ext cx="36072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36120" y="2337480"/>
              <a:ext cx="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7200" y="2337480"/>
              <a:ext cx="36072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67560" y="2337480"/>
              <a:ext cx="135288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36120" y="414180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063240" y="4051080"/>
              <a:ext cx="6314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7200" y="4051080"/>
              <a:ext cx="36072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36120" y="477324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882520" y="5313960"/>
              <a:ext cx="81180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6120" y="53139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200" y="5313960"/>
              <a:ext cx="117252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49280" y="6036120"/>
              <a:ext cx="2074680" cy="45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rough a range of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ructiona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d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ategi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uch 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36120" y="5855400"/>
              <a:ext cx="36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6120" y="6486840"/>
              <a:ext cx="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447920" y="5638680"/>
            <a:ext cx="1371600" cy="34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5791320"/>
            <a:ext cx="1371600" cy="34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0"/>
            <a:ext cx="2743200" cy="68580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on of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666880"/>
            <a:ext cx="1371600" cy="9144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ve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4880" y="-1314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828800"/>
            <a:ext cx="8229600" cy="3415320"/>
          </a:xfrm>
          <a:prstGeom prst="rect">
            <a:avLst/>
          </a:prstGeom>
          <a:solidFill>
            <a:srgbClr val="ffffff">
              <a:alpha val="8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ache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com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Respectful of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-orien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wth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S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Supportive Learning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641840"/>
            <a:ext cx="8229600" cy="24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lief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ebr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ckwell"/>
              </a:rPr>
              <a:t>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DI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f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hings you should know about Quality Curriculm (discu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24:43Z</dcterms:created>
  <dc:creator>nancy.schultz</dc:creator>
  <dc:description/>
  <dc:language>en-US</dc:language>
  <cp:lastModifiedBy>nancy.schultz</cp:lastModifiedBy>
  <dcterms:modified xsi:type="dcterms:W3CDTF">2010-02-04T20:54:32Z</dcterms:modified>
  <cp:revision>4</cp:revision>
  <dc:subject/>
  <dc:title>DI Grades Middle Years Day 3 February 8, 2010</dc:title>
</cp:coreProperties>
</file>